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9.wmf" ContentType="image/x-wmf"/>
  <Override PartName="/ppt/media/image2.png" ContentType="image/png"/>
  <Override PartName="/ppt/media/image18.wmf" ContentType="image/x-wmf"/>
  <Override PartName="/ppt/media/image3.jpeg" ContentType="image/jpeg"/>
  <Override PartName="/ppt/media/image17.wmf" ContentType="image/x-wmf"/>
  <Override PartName="/ppt/media/image14.jpeg" ContentType="image/jpeg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41964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704000" y="6552720"/>
            <a:ext cx="144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6137-7F22-470F-B839-3C07CE427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658280" y="6324480"/>
            <a:ext cx="914400" cy="290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 flipH="1">
            <a:off x="-360" y="65530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10480" y="6553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184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08000" y="6524640"/>
            <a:ext cx="33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llaborationstreffen DELTA-COSY-G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ortrag zum Kollaborationstreffen DELTA-COSY-G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PM System am SIS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96000" y="5013360"/>
            <a:ext cx="2663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vin Lan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SI - Strahldiagn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terface of GSI BPM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6920" y="1339920"/>
            <a:ext cx="2664000" cy="504036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60360" y="1844640"/>
            <a:ext cx="16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SI BPM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VHD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90920" y="155592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90920" y="220356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386064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92360" y="277956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2360" y="306864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87320" y="126684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ition X: 22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87320" y="191448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ition Y: 22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6600" y="357336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verload Status: 4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86960" y="4221000"/>
            <a:ext cx="199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erload Status: 4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64720" y="2492280"/>
            <a:ext cx="82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12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64720" y="2779560"/>
            <a:ext cx="82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12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64720" y="3068640"/>
            <a:ext cx="833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rf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16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33559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92360" y="450864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515628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7880" y="4869000"/>
            <a:ext cx="128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nsity: 4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06920" y="4940280"/>
            <a:ext cx="374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MS of sum of all plate signals. Is represented by 16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01160" y="1411200"/>
            <a:ext cx="20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ctional remainder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451640" y="1266840"/>
          <a:ext cx="34308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1266840"/>
                    <a:ext cx="3430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7451640" y="1916280"/>
          <a:ext cx="34308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51640" y="1916280"/>
                    <a:ext cx="3430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5501160" y="2060640"/>
            <a:ext cx="20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ctional remainder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48240" y="3645000"/>
            <a:ext cx="369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bit for each plate. Set when Bunch signal is too hig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48240" y="4292640"/>
            <a:ext cx="369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bit for each plate. Set when Bunch signal is too lo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360" y="3357720"/>
            <a:ext cx="790560" cy="107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573360"/>
            <a:ext cx="79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gitized Plate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07640" y="292428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imestam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terface of GSI BPM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26920" y="1339920"/>
            <a:ext cx="2664000" cy="504036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60360" y="1844640"/>
            <a:ext cx="16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SI BPM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VHD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2924280"/>
            <a:ext cx="2449440" cy="20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tenc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R: 127 cyc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50 cycles for Position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ditional 4 cycles for Position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ditional 8 cycles for Inten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90920" y="155592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90920" y="220356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386064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2360" y="277956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92360" y="306864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87320" y="126684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ition X: 22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87320" y="191448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ition Y: 22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86600" y="357336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verload Status: 4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86960" y="4221000"/>
            <a:ext cx="199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erload Status: 4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64720" y="2492280"/>
            <a:ext cx="82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12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64720" y="2779560"/>
            <a:ext cx="82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12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64720" y="3068640"/>
            <a:ext cx="833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rf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16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92360" y="33559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492360" y="450864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90920" y="515628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57880" y="4869000"/>
            <a:ext cx="128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nsity: 4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90920" y="5587920"/>
            <a:ext cx="201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90920" y="5875200"/>
            <a:ext cx="201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61120" y="5299200"/>
            <a:ext cx="14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ition X rea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61120" y="5587920"/>
            <a:ext cx="14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ition Y rea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90920" y="6164280"/>
            <a:ext cx="201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60760" y="5875200"/>
            <a:ext cx="16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PM Packet rea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06920" y="4940280"/>
            <a:ext cx="374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MS of sum of all plate signals. Is represented by 16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01160" y="1411200"/>
            <a:ext cx="20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ctional remainder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451640" y="1266840"/>
          <a:ext cx="34308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1266840"/>
                    <a:ext cx="3430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7451640" y="1916280"/>
          <a:ext cx="34308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51640" y="1916280"/>
                    <a:ext cx="3430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5501160" y="2060640"/>
            <a:ext cx="20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ctional remainder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48240" y="3645000"/>
            <a:ext cx="369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bit for each plate. Set when Bunch signal is too hig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48240" y="4292640"/>
            <a:ext cx="369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bit for each plate. Set when Bunch signal is too lo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06920" y="601992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dy after Intensity has been calcul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33920" y="5589720"/>
            <a:ext cx="245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81 cycles latency ( ≈ 1.5µ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115640" y="5877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360" y="3357720"/>
            <a:ext cx="790560" cy="107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573360"/>
            <a:ext cx="79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gitized Plate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07640" y="292428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imestam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050920" y="2492280"/>
            <a:ext cx="6553440" cy="3745080"/>
          </a:xfrm>
          <a:prstGeom prst="rect">
            <a:avLst/>
          </a:prstGeom>
          <a:solidFill>
            <a:srgbClr val="fcfc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71640" y="3789360"/>
            <a:ext cx="934920" cy="1079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taflow and Controlling inside Lib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708280"/>
            <a:ext cx="1081080" cy="1081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08360" y="3789360"/>
            <a:ext cx="3384360" cy="2160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79640" y="1701720"/>
            <a:ext cx="828360" cy="316872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79640" y="2638440"/>
            <a:ext cx="100800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AD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3399"/>
                </a:solidFill>
                <a:latin typeface="Arial"/>
              </a:rPr>
              <a:t>4x 14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3399"/>
                </a:solidFill>
                <a:latin typeface="Arial"/>
              </a:rPr>
              <a:t>125 MSa/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24360" y="3862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User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92360" y="2709720"/>
            <a:ext cx="2700360" cy="57636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2708280"/>
            <a:ext cx="273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History Buffer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99"/>
                </a:solidFill>
                <a:latin typeface="Arial"/>
              </a:rPr>
              <a:t>for 256 MB DDR RAM (0.25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56360" y="2709720"/>
            <a:ext cx="1260720" cy="324036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0" y="32148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GbE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64000" y="1701720"/>
            <a:ext cx="5653080" cy="50328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35280" y="1700280"/>
            <a:ext cx="360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Single Board Computer (S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99"/>
                </a:solidFill>
                <a:latin typeface="Arial"/>
              </a:rPr>
              <a:t>running generic server to build interface for F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280" y="4222800"/>
            <a:ext cx="3097080" cy="158436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00360" y="48704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SI BPM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5877000"/>
            <a:ext cx="280836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5589720"/>
            <a:ext cx="2808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5300640"/>
            <a:ext cx="280836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0" y="501336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art (Arm Inp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-1440" y="530064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op (Trigger Inp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558972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 (System Clock Input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2924280"/>
            <a:ext cx="95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Analogue Plate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35280" y="4005360"/>
            <a:ext cx="79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gitized Plate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2520" y="11970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2360" y="26370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P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050920" y="2492280"/>
            <a:ext cx="6553440" cy="3745080"/>
          </a:xfrm>
          <a:prstGeom prst="rect">
            <a:avLst/>
          </a:prstGeom>
          <a:solidFill>
            <a:srgbClr val="fcfc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71640" y="3789360"/>
            <a:ext cx="934920" cy="1079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84720" y="3284640"/>
            <a:ext cx="122400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49840" y="5948280"/>
            <a:ext cx="1225440" cy="5763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taflow and Controlling inside Lib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2708280"/>
            <a:ext cx="1081080" cy="1081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08360" y="3789360"/>
            <a:ext cx="3384360" cy="2160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79640" y="1701720"/>
            <a:ext cx="828360" cy="316872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79640" y="2638440"/>
            <a:ext cx="100800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AD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3399"/>
                </a:solidFill>
                <a:latin typeface="Arial"/>
              </a:rPr>
              <a:t>4x 14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3399"/>
                </a:solidFill>
                <a:latin typeface="Arial"/>
              </a:rPr>
              <a:t>125 MSa/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24360" y="3862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User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92360" y="2709720"/>
            <a:ext cx="2700360" cy="57636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92360" y="2708280"/>
            <a:ext cx="273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History Buffer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99"/>
                </a:solidFill>
                <a:latin typeface="Arial"/>
              </a:rPr>
              <a:t>for 256 MB DDR RAM (0.25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056360" y="2709720"/>
            <a:ext cx="1260720" cy="324036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28000" y="32148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GbE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64000" y="1701720"/>
            <a:ext cx="5653080" cy="50328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635280" y="1700280"/>
            <a:ext cx="360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Single Board Computer (S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99"/>
                </a:solidFill>
                <a:latin typeface="Arial"/>
              </a:rPr>
              <a:t>running generic server to build interface for F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51280" y="4222800"/>
            <a:ext cx="3097080" cy="158436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00360" y="48704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SI BPM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5877000"/>
            <a:ext cx="280836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5589720"/>
            <a:ext cx="2808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5300640"/>
            <a:ext cx="280836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0" y="501336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art (Arm Inp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1440" y="530064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op (Trigger Inp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558972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 (System Clock Input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92720" y="2638440"/>
            <a:ext cx="863640" cy="719280"/>
          </a:xfrm>
          <a:prstGeom prst="rightArrow">
            <a:avLst>
              <a:gd name="adj1" fmla="val 50000"/>
              <a:gd name="adj2" fmla="val 3001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92720" y="4078440"/>
            <a:ext cx="863640" cy="863280"/>
          </a:xfrm>
          <a:prstGeom prst="rightArrow">
            <a:avLst>
              <a:gd name="adj1" fmla="val 50000"/>
              <a:gd name="adj2" fmla="val 2501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17080" y="3933720"/>
            <a:ext cx="826920" cy="792360"/>
          </a:xfrm>
          <a:prstGeom prst="rightArrow">
            <a:avLst>
              <a:gd name="adj1" fmla="val 50000"/>
              <a:gd name="adj2" fmla="val 2609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924280"/>
            <a:ext cx="95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Analogue Plate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35280" y="4005360"/>
            <a:ext cx="79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gitized Plate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00720" y="335772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4x 16 bit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84720" y="2205000"/>
            <a:ext cx="122400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00720" y="227664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ffered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19640" y="2781360"/>
            <a:ext cx="7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ffered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19640" y="4294080"/>
            <a:ext cx="7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PM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67280" y="602136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MC IO 24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9440" y="4149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00"/>
                </a:solidFill>
                <a:latin typeface="Arial"/>
              </a:rPr>
              <a:t>G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03640" y="1197000"/>
            <a:ext cx="938520" cy="5032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6200000">
            <a:off x="5126040" y="1217160"/>
            <a:ext cx="64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Fast 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82520" y="11970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52360" y="26370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P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050920" y="2492280"/>
            <a:ext cx="6553440" cy="3745080"/>
          </a:xfrm>
          <a:prstGeom prst="rect">
            <a:avLst/>
          </a:prstGeom>
          <a:solidFill>
            <a:srgbClr val="fcfc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71640" y="3789360"/>
            <a:ext cx="934920" cy="1079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4720" y="3284640"/>
            <a:ext cx="122400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49840" y="5948280"/>
            <a:ext cx="1225440" cy="5763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taflow and Controlling inside Lib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2708280"/>
            <a:ext cx="1081080" cy="1081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08360" y="3789360"/>
            <a:ext cx="3384360" cy="2160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79640" y="1701720"/>
            <a:ext cx="828360" cy="316872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79640" y="2638440"/>
            <a:ext cx="100800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AD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3399"/>
                </a:solidFill>
                <a:latin typeface="Arial"/>
              </a:rPr>
              <a:t>4x 14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3399"/>
                </a:solidFill>
                <a:latin typeface="Arial"/>
              </a:rPr>
              <a:t>125 MSa/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24360" y="3862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User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92360" y="2709720"/>
            <a:ext cx="2700360" cy="57636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2708280"/>
            <a:ext cx="273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History Buffer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99"/>
                </a:solidFill>
                <a:latin typeface="Arial"/>
              </a:rPr>
              <a:t>for 256 MB DDR RAM (0.25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056360" y="2709720"/>
            <a:ext cx="1260720" cy="324036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28000" y="32148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GbE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64000" y="1701720"/>
            <a:ext cx="5653080" cy="50328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635280" y="1700280"/>
            <a:ext cx="360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99"/>
                </a:solidFill>
                <a:latin typeface="Arial"/>
              </a:rPr>
              <a:t>Single Board Computer (SB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399"/>
                </a:solidFill>
                <a:latin typeface="Arial"/>
              </a:rPr>
              <a:t>running generic server to build interface for F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951280" y="4222800"/>
            <a:ext cx="3097080" cy="158436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00360" y="48704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SI BPM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5877000"/>
            <a:ext cx="280836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5589720"/>
            <a:ext cx="2808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5300640"/>
            <a:ext cx="280836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0" y="501336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art (Arm Inp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-1440" y="530064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op (Trigger Inp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558972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 (System Clock Input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5797440" y="328464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192720" y="2638440"/>
            <a:ext cx="863640" cy="719280"/>
          </a:xfrm>
          <a:prstGeom prst="rightArrow">
            <a:avLst>
              <a:gd name="adj1" fmla="val 50000"/>
              <a:gd name="adj2" fmla="val 3001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92720" y="4078440"/>
            <a:ext cx="863640" cy="863280"/>
          </a:xfrm>
          <a:prstGeom prst="rightArrow">
            <a:avLst>
              <a:gd name="adj1" fmla="val 50000"/>
              <a:gd name="adj2" fmla="val 2501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317080" y="3933720"/>
            <a:ext cx="826920" cy="792360"/>
          </a:xfrm>
          <a:prstGeom prst="rightArrow">
            <a:avLst>
              <a:gd name="adj1" fmla="val 50000"/>
              <a:gd name="adj2" fmla="val 2609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797440" y="220500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2924280"/>
            <a:ext cx="95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Analogue Plate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35280" y="4005360"/>
            <a:ext cx="79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gitized Plate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08360" y="2206800"/>
            <a:ext cx="611280" cy="1582560"/>
          </a:xfrm>
          <a:prstGeom prst="upDownArrow">
            <a:avLst>
              <a:gd name="adj1" fmla="val 50000"/>
              <a:gd name="adj2" fmla="val 5153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641680" y="283932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00720" y="335772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4x 16 bit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84720" y="2205000"/>
            <a:ext cx="122400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25080" y="227664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25080" y="34290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00720" y="227664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ffered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19640" y="2781360"/>
            <a:ext cx="7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ffered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9640" y="4294080"/>
            <a:ext cx="7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PM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720" y="56624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92720" y="5230800"/>
            <a:ext cx="81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rol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67280" y="602136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MC IO 24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9440" y="4149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00"/>
                </a:solidFill>
                <a:latin typeface="Arial"/>
              </a:rPr>
              <a:t>G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3640" y="1197000"/>
            <a:ext cx="938520" cy="5032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16200000">
            <a:off x="5126040" y="1217160"/>
            <a:ext cx="64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Fast 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92360" y="2205000"/>
            <a:ext cx="649440" cy="5032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3483360" y="228600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308720" y="2205000"/>
            <a:ext cx="649440" cy="5032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6200000">
            <a:off x="7299720" y="228600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2520" y="11970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52360" y="26370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P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igabit Ethernet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50920" y="1628640"/>
            <a:ext cx="8066160" cy="1293840"/>
            <a:chOff x="250920" y="1628640"/>
            <a:chExt cx="8066160" cy="1293840"/>
          </a:xfrm>
        </p:grpSpPr>
        <p:sp>
          <p:nvSpPr>
            <p:cNvPr id="382" name=""/>
            <p:cNvSpPr/>
            <p:nvPr/>
          </p:nvSpPr>
          <p:spPr>
            <a:xfrm>
              <a:off x="4284720" y="2058840"/>
              <a:ext cx="100836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93080" y="2058840"/>
              <a:ext cx="100800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301080" y="2058840"/>
              <a:ext cx="100800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09080" y="2058840"/>
              <a:ext cx="100800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2720" y="2058840"/>
              <a:ext cx="100800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60720" y="2058840"/>
              <a:ext cx="100800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31640" y="2058840"/>
              <a:ext cx="8010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Over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68720" y="2058840"/>
              <a:ext cx="100800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76720" y="2058840"/>
              <a:ext cx="100800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46560" y="2058840"/>
              <a:ext cx="8863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Under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88360" y="2203200"/>
              <a:ext cx="341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52000" y="220320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3640" y="220320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Position 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39640" y="220320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Position 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47600" y="220320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83960" y="220320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5092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5892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6872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7672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8472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9308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30108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30908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31708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8360" y="2635200"/>
              <a:ext cx="55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22 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84720" y="2635200"/>
              <a:ext cx="55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22 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48720" y="2635200"/>
              <a:ext cx="47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4 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64720" y="2635200"/>
              <a:ext cx="47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4 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500720" y="2635200"/>
              <a:ext cx="55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12 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08720" y="2635200"/>
              <a:ext cx="55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12 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516720" y="2635200"/>
              <a:ext cx="55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16 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525440" y="2635200"/>
              <a:ext cx="47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4 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51640" y="1628640"/>
              <a:ext cx="157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BPM 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igabit Ethernet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79280" y="3429000"/>
            <a:ext cx="8713800" cy="1609200"/>
            <a:chOff x="179280" y="3429000"/>
            <a:chExt cx="8713800" cy="1609200"/>
          </a:xfrm>
        </p:grpSpPr>
        <p:sp>
          <p:nvSpPr>
            <p:cNvPr id="418" name=""/>
            <p:cNvSpPr/>
            <p:nvPr/>
          </p:nvSpPr>
          <p:spPr>
            <a:xfrm>
              <a:off x="252360" y="3885840"/>
              <a:ext cx="934920" cy="57456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87280" y="3885840"/>
              <a:ext cx="793800" cy="574560"/>
            </a:xfrm>
            <a:prstGeom prst="flowChartProcess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79280" y="3885840"/>
              <a:ext cx="865440" cy="574560"/>
            </a:xfrm>
            <a:prstGeom prst="flowChartProcess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44720" y="3885840"/>
              <a:ext cx="863640" cy="574560"/>
            </a:xfrm>
            <a:prstGeom prst="flowChartProcess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08360" y="3885840"/>
              <a:ext cx="865080" cy="574560"/>
            </a:xfrm>
            <a:prstGeom prst="flowChartProcess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9280" y="3885840"/>
              <a:ext cx="10792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Header(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ETH/IP/UD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16000" y="4030560"/>
              <a:ext cx="88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08000" y="3885840"/>
              <a:ext cx="100476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66400" y="3885840"/>
              <a:ext cx="7246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oun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79280" y="3885840"/>
              <a:ext cx="7246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oun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72000" y="3885840"/>
              <a:ext cx="86508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37080" y="3885840"/>
              <a:ext cx="86508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300720" y="3885840"/>
              <a:ext cx="28728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028000" y="3885840"/>
              <a:ext cx="865080" cy="57456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500360" y="3885840"/>
              <a:ext cx="10224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BPM Pac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#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179920" y="3885840"/>
              <a:ext cx="50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64360" y="3885840"/>
              <a:ext cx="86508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88000" y="3885840"/>
              <a:ext cx="28728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876720" y="3885840"/>
              <a:ext cx="28764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00720" y="4028760"/>
              <a:ext cx="35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88000" y="402876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76720" y="402876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64000" y="3885840"/>
              <a:ext cx="10224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BPM Pac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#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92720" y="3885840"/>
              <a:ext cx="10224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BPM Pac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#67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52360" y="446220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187280" y="446220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79280" y="446220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844720" y="446220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08360" y="446220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72000" y="446220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37080" y="446220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29440" y="446220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893080" y="446220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3280" y="4484520"/>
              <a:ext cx="75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42 by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60360" y="44622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52360" y="44622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916000" y="44622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779640" y="44622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4 by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644360" y="4462200"/>
              <a:ext cx="75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12 by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100720" y="44622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4 by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08000" y="4462200"/>
              <a:ext cx="75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12 by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00720" y="446220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72000" y="47494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028000" y="47494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14240" y="4749480"/>
              <a:ext cx="208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678 * 12 bytes = 8136 by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572000" y="4749480"/>
              <a:ext cx="34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47320" y="3429000"/>
              <a:ext cx="302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BPM Frame (8192 byte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50920" y="1628640"/>
            <a:ext cx="8066160" cy="1293840"/>
            <a:chOff x="250920" y="1628640"/>
            <a:chExt cx="8066160" cy="1293840"/>
          </a:xfrm>
        </p:grpSpPr>
        <p:sp>
          <p:nvSpPr>
            <p:cNvPr id="466" name=""/>
            <p:cNvSpPr/>
            <p:nvPr/>
          </p:nvSpPr>
          <p:spPr>
            <a:xfrm>
              <a:off x="4284720" y="2058840"/>
              <a:ext cx="100836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93080" y="2058840"/>
              <a:ext cx="100800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01080" y="2058840"/>
              <a:ext cx="100800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09080" y="2058840"/>
              <a:ext cx="100800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2720" y="2058840"/>
              <a:ext cx="100800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260720" y="2058840"/>
              <a:ext cx="100800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331640" y="2058840"/>
              <a:ext cx="8010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Over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268720" y="2058840"/>
              <a:ext cx="100800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276720" y="2058840"/>
              <a:ext cx="1008000" cy="574560"/>
            </a:xfrm>
            <a:prstGeom prst="flowChart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346560" y="2058840"/>
              <a:ext cx="8863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Under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88360" y="2203200"/>
              <a:ext cx="341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452000" y="220320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3640" y="220320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Position 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39640" y="220320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Position 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647600" y="220320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583960" y="2203200"/>
              <a:ext cx="28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5092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25892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26872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27672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8472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29308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0108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0908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17080" y="26352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8360" y="2635200"/>
              <a:ext cx="55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22 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84720" y="2635200"/>
              <a:ext cx="55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22 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48720" y="2635200"/>
              <a:ext cx="47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4 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564720" y="2635200"/>
              <a:ext cx="47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4 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500720" y="2635200"/>
              <a:ext cx="55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12 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08720" y="2635200"/>
              <a:ext cx="55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12 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516720" y="2635200"/>
              <a:ext cx="55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16 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525440" y="2635200"/>
              <a:ext cx="47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4 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1640" y="1628640"/>
              <a:ext cx="157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BPM Pac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228600" y="5373720"/>
            <a:ext cx="5840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DP used as Transport 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imum latency of position data: 0.9ms (@0.8MHz acc. frequency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2879640" y="1197000"/>
            <a:ext cx="6264360" cy="523224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frastructure for Data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79280" y="1628640"/>
            <a:ext cx="2664000" cy="37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data output of ≈ 68 MB/s per Libera via Gbit Ethernet (5.6 MHz acc. freq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6 Liberas per Concentrator Serv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data input of ≈ 400 MB/s per Concentrator Server via 10 GBit Ethern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ncentrator Server corrects diffrences of amplifiers (calibration) and uses Pick-Up coefficients and offsets for final position calcul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ncentrator Server uses Timestamps for error corre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PM G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67690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PMs at SIS1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sition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lculation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seline Resta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imesta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faces for Positio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SI BPM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aflow and Controlling inside Lib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igabit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sition Data Acqui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856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3170160" y="1447920"/>
            <a:ext cx="28018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imest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61636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2376360" y="4641840"/>
          <a:ext cx="139680" cy="15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360" y="4641840"/>
                    <a:ext cx="1396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"/>
          <p:cNvSpPr/>
          <p:nvPr/>
        </p:nvSpPr>
        <p:spPr>
          <a:xfrm>
            <a:off x="1403280" y="4006800"/>
            <a:ext cx="647640" cy="43200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476360" y="407844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403280" y="4511520"/>
            <a:ext cx="647640" cy="43200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476360" y="458316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03280" y="5087880"/>
            <a:ext cx="647640" cy="43200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476360" y="515952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403280" y="5664240"/>
            <a:ext cx="647640" cy="43164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476360" y="573552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11280" y="4005360"/>
            <a:ext cx="792000" cy="433440"/>
          </a:xfrm>
          <a:prstGeom prst="rightArrow">
            <a:avLst>
              <a:gd name="adj1" fmla="val 50000"/>
              <a:gd name="adj2" fmla="val 4568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40360" y="407844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ft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11280" y="4508640"/>
            <a:ext cx="792000" cy="433080"/>
          </a:xfrm>
          <a:prstGeom prst="rightArrow">
            <a:avLst>
              <a:gd name="adj1" fmla="val 50000"/>
              <a:gd name="adj2" fmla="val 457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0720" y="45813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ight (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11280" y="5084640"/>
            <a:ext cx="792000" cy="433440"/>
          </a:xfrm>
          <a:prstGeom prst="rightArrow">
            <a:avLst>
              <a:gd name="adj1" fmla="val 50000"/>
              <a:gd name="adj2" fmla="val 4568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39640" y="5157720"/>
            <a:ext cx="6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op 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11280" y="5661000"/>
            <a:ext cx="792000" cy="433440"/>
          </a:xfrm>
          <a:prstGeom prst="rightArrow">
            <a:avLst>
              <a:gd name="adj1" fmla="val 50000"/>
              <a:gd name="adj2" fmla="val 4568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0720" y="573408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ttom 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0920" y="4005360"/>
            <a:ext cx="505080" cy="433440"/>
          </a:xfrm>
          <a:prstGeom prst="rightArrow">
            <a:avLst>
              <a:gd name="adj1" fmla="val 50000"/>
              <a:gd name="adj2" fmla="val 291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125080" y="40784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50920" y="4508640"/>
            <a:ext cx="505080" cy="433080"/>
          </a:xfrm>
          <a:prstGeom prst="rightArrow">
            <a:avLst>
              <a:gd name="adj1" fmla="val 50000"/>
              <a:gd name="adj2" fmla="val 291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125440" y="4581360"/>
            <a:ext cx="3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050920" y="5084640"/>
            <a:ext cx="505080" cy="433440"/>
          </a:xfrm>
          <a:prstGeom prst="rightArrow">
            <a:avLst>
              <a:gd name="adj1" fmla="val 50000"/>
              <a:gd name="adj2" fmla="val 291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124000" y="51577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050920" y="5661000"/>
            <a:ext cx="505080" cy="433440"/>
          </a:xfrm>
          <a:prstGeom prst="rightArrow">
            <a:avLst>
              <a:gd name="adj1" fmla="val 50000"/>
              <a:gd name="adj2" fmla="val 291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125440" y="57340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556000" y="4005360"/>
            <a:ext cx="934920" cy="100800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56000" y="5086440"/>
            <a:ext cx="934920" cy="100800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7667640" y="5445000"/>
          <a:ext cx="31572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7640" y="5445000"/>
                    <a:ext cx="3157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2556000" y="5373720"/>
          <a:ext cx="33012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5373720"/>
                    <a:ext cx="330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2556000" y="4294080"/>
          <a:ext cx="339480" cy="37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56000" y="4294080"/>
                    <a:ext cx="33948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3132000" y="5302080"/>
          <a:ext cx="365400" cy="43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32000" y="5302080"/>
                    <a:ext cx="3654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3132000" y="4222800"/>
          <a:ext cx="365400" cy="4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32000" y="4222800"/>
                    <a:ext cx="3654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"/>
          <p:cNvGraphicFramePr/>
          <p:nvPr/>
        </p:nvGraphicFramePr>
        <p:xfrm>
          <a:off x="6516720" y="4653000"/>
          <a:ext cx="1417680" cy="1946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16720" y="4653000"/>
                    <a:ext cx="1417680" cy="19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"/>
          <p:cNvSpPr/>
          <p:nvPr/>
        </p:nvSpPr>
        <p:spPr>
          <a:xfrm>
            <a:off x="2845080" y="537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845080" y="4294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11280" y="1700280"/>
            <a:ext cx="1293840" cy="100800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556000" y="1916280"/>
            <a:ext cx="102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ndow Gen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403280" y="1700280"/>
            <a:ext cx="647640" cy="20890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1547640" y="2492280"/>
          <a:ext cx="39564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47640" y="2492280"/>
                    <a:ext cx="3956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"/>
          <p:cNvSpPr/>
          <p:nvPr/>
        </p:nvSpPr>
        <p:spPr>
          <a:xfrm>
            <a:off x="611280" y="1700280"/>
            <a:ext cx="792000" cy="433440"/>
          </a:xfrm>
          <a:prstGeom prst="rightArrow">
            <a:avLst>
              <a:gd name="adj1" fmla="val 50000"/>
              <a:gd name="adj2" fmla="val 4568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0360" y="17733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ft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11280" y="2203560"/>
            <a:ext cx="792000" cy="433440"/>
          </a:xfrm>
          <a:prstGeom prst="rightArrow">
            <a:avLst>
              <a:gd name="adj1" fmla="val 50000"/>
              <a:gd name="adj2" fmla="val 4568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40720" y="227664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ight (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11280" y="2779560"/>
            <a:ext cx="792000" cy="433440"/>
          </a:xfrm>
          <a:prstGeom prst="rightArrow">
            <a:avLst>
              <a:gd name="adj1" fmla="val 50000"/>
              <a:gd name="adj2" fmla="val 4568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9640" y="2852640"/>
            <a:ext cx="6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op 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11280" y="3355920"/>
            <a:ext cx="792000" cy="433440"/>
          </a:xfrm>
          <a:prstGeom prst="rightArrow">
            <a:avLst>
              <a:gd name="adj1" fmla="val 50000"/>
              <a:gd name="adj2" fmla="val 4568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0720" y="342900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ttom 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51280" y="4005360"/>
            <a:ext cx="647640" cy="5032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PMs at SIS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-252360" y="1341360"/>
            <a:ext cx="5808600" cy="5043600"/>
            <a:chOff x="-252360" y="1341360"/>
            <a:chExt cx="5808600" cy="504360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-252360" y="1341360"/>
              <a:ext cx="5808600" cy="50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719280" y="1773360"/>
              <a:ext cx="4248000" cy="4176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253520" y="2276640"/>
            <a:ext cx="34513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cumferenc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6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j. typ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y rang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 MeV → 2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.RF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8 → 5.6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c. harmoni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 (no. of bunch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nching fact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.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→ 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amp dur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.3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→ 1.5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r. of BP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2000" y="13860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S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227640" y="1341360"/>
            <a:ext cx="1008360" cy="10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PMs at SIS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-252360" y="1341360"/>
            <a:ext cx="5808600" cy="5043600"/>
            <a:chOff x="-252360" y="1341360"/>
            <a:chExt cx="5808600" cy="504360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-252360" y="1341360"/>
              <a:ext cx="5808600" cy="50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719280" y="1773360"/>
              <a:ext cx="4248000" cy="4176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1253520" y="2276640"/>
            <a:ext cx="34513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cumferenc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6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j. typ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y rang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 MeV → 2 G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.RF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8 → 5.6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c. harmoni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 (no. of bunch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nching fact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.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→ 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amp dur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.3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→ 1.5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r. of BP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15280" y="14860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15280" y="220680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70560" y="163044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91280" y="163044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083280" y="18464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91280" y="18464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730920" y="12700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30920" y="220680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83280" y="184644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78560" y="184644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30920" y="127008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2638440"/>
            <a:ext cx="576360" cy="50328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43640" y="2638440"/>
            <a:ext cx="576360" cy="50328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91280" y="2638440"/>
            <a:ext cx="576360" cy="50328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38920" y="2638440"/>
            <a:ext cx="576360" cy="503280"/>
          </a:xfrm>
          <a:prstGeom prst="flowChartMer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8028000" y="1269720"/>
            <a:ext cx="0" cy="13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38920" y="127008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83280" y="3141720"/>
            <a:ext cx="14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30920" y="3141720"/>
            <a:ext cx="180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78560" y="3141720"/>
            <a:ext cx="180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0360" y="3429000"/>
            <a:ext cx="2232000" cy="100800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28000" y="3141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00720" y="3646440"/>
            <a:ext cx="151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cc"/>
                </a:solidFill>
                <a:latin typeface="Arial"/>
              </a:rPr>
              <a:t>4x 14 bit AD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cc"/>
                </a:solidFill>
                <a:latin typeface="Arial"/>
              </a:rPr>
              <a:t>125 MSa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cc"/>
                </a:solidFill>
                <a:latin typeface="Arial"/>
              </a:rPr>
              <a:t>Virtex II Pro FP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cc"/>
                </a:solidFill>
                <a:latin typeface="Arial"/>
              </a:rPr>
              <a:t>256 MB DDR 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38560" y="342900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cc"/>
                </a:solidFill>
                <a:latin typeface="Arial"/>
              </a:rPr>
              <a:t>Libera Had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4437000"/>
            <a:ext cx="6476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4560" y="4508640"/>
            <a:ext cx="109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osition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2000" y="13860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S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35640" y="4869000"/>
            <a:ext cx="331308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ition data for each bunch at each BPM. Allows measurement of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nch by Bun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losed Or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urn by 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59640" y="1773360"/>
            <a:ext cx="14580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73440" y="148428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B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osition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3141720"/>
            <a:ext cx="273528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Pick-Up coefficie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rizontal: 171 mm to 174.1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tical: 50.3 mm to 51.5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Pick-Up off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rizontal: -0.53 mm to 1.64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tical: -0.23 to 0.18 (verti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95280" y="1916280"/>
          <a:ext cx="2075040" cy="9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16280"/>
                    <a:ext cx="207504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osition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03640" y="1268280"/>
            <a:ext cx="5688000" cy="3703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3141720"/>
            <a:ext cx="273528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Pick-Up coefficie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rizontal: 171 mm to 174.1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tical: 50.3 mm to 51.5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Pick-Up off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rizontal: -0.53 mm to 1.64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tical: -0.23 to 0.18 (verti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95280" y="1916280"/>
          <a:ext cx="2075040" cy="99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916280"/>
                    <a:ext cx="207504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348000" y="501336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gration is only done over the bunch. Therfore an integration window must be genera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aseline Resta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42920" y="4581360"/>
          <a:ext cx="2952720" cy="7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581360"/>
                    <a:ext cx="295272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95280" y="1844640"/>
            <a:ext cx="8424720" cy="2247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rot="16200000">
            <a:off x="-164520" y="283824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rbitrary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95640" y="407664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ample n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11280" y="3645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3645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19280" y="2349360"/>
            <a:ext cx="1297080" cy="2303640"/>
          </a:xfrm>
          <a:custGeom>
            <a:avLst/>
            <a:gdLst/>
            <a:ahLst/>
            <a:rect l="l" t="t" r="r" b="b"/>
            <a:pathLst>
              <a:path w="817" h="1451">
                <a:moveTo>
                  <a:pt x="817" y="0"/>
                </a:moveTo>
                <a:cubicBezTo>
                  <a:pt x="612" y="219"/>
                  <a:pt x="408" y="438"/>
                  <a:pt x="272" y="680"/>
                </a:cubicBezTo>
                <a:cubicBezTo>
                  <a:pt x="136" y="922"/>
                  <a:pt x="23" y="1330"/>
                  <a:pt x="0" y="14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8640" y="4653000"/>
            <a:ext cx="2865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x. period of T: 1.25µs (0.8KH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=&gt; T/2 = 625ns = 79 s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61200" y="1484280"/>
            <a:ext cx="370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nerated Gaussian Signal (1.5MHz perio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2920" y="5472000"/>
            <a:ext cx="44938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nstant delay of 127 is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sults in a latency of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 µs for integral of a bun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lay can be reduced to 79 cycles (632ns latency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imest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8424720" cy="2247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rot="16200000">
            <a:off x="-164520" y="283824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rbitrary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076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ylce nr. of ADC cl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898560" y="3716280"/>
            <a:ext cx="7705800" cy="142920"/>
            <a:chOff x="898560" y="3716280"/>
            <a:chExt cx="7705800" cy="142920"/>
          </a:xfrm>
        </p:grpSpPr>
        <p:sp>
          <p:nvSpPr>
            <p:cNvPr id="119" name=""/>
            <p:cNvSpPr/>
            <p:nvPr/>
          </p:nvSpPr>
          <p:spPr>
            <a:xfrm>
              <a:off x="1906560" y="3716280"/>
              <a:ext cx="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14920" y="3716280"/>
              <a:ext cx="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51280" y="3716280"/>
              <a:ext cx="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59280" y="3716280"/>
              <a:ext cx="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96000" y="3716280"/>
              <a:ext cx="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04000" y="3716280"/>
              <a:ext cx="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812360" y="3716280"/>
              <a:ext cx="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03280" y="3716280"/>
              <a:ext cx="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11640" y="3716280"/>
              <a:ext cx="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48000" y="3716280"/>
              <a:ext cx="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56360" y="3716280"/>
              <a:ext cx="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64360" y="3716280"/>
              <a:ext cx="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99280" y="3716280"/>
              <a:ext cx="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07280" y="3716280"/>
              <a:ext cx="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98560" y="3859200"/>
              <a:ext cx="5047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03280" y="3716280"/>
              <a:ext cx="5050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06560" y="3859200"/>
              <a:ext cx="5050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11640" y="3716280"/>
              <a:ext cx="5047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14920" y="3859200"/>
              <a:ext cx="4330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48000" y="3716280"/>
              <a:ext cx="5050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51280" y="3859200"/>
              <a:ext cx="5050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56360" y="3716280"/>
              <a:ext cx="5047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59280" y="3859200"/>
              <a:ext cx="5050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64360" y="3716280"/>
              <a:ext cx="43164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96000" y="3859200"/>
              <a:ext cx="5047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99280" y="3716280"/>
              <a:ext cx="5047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04000" y="3859200"/>
              <a:ext cx="5050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07280" y="3716280"/>
              <a:ext cx="5050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12360" y="3859200"/>
              <a:ext cx="50472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15280" y="3716280"/>
              <a:ext cx="0" cy="142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15280" y="3716280"/>
              <a:ext cx="2890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7812000" y="2205000"/>
            <a:ext cx="50328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64360" y="2073240"/>
            <a:ext cx="5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F cl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187280" y="3860640"/>
            <a:ext cx="21600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42920" y="4365720"/>
            <a:ext cx="504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rf(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1474560" y="2852280"/>
            <a:ext cx="21564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14560" y="2492280"/>
            <a:ext cx="57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‘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(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2195280" y="32842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24000" y="3357720"/>
            <a:ext cx="647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‘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(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79640" y="4365720"/>
            <a:ext cx="719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rf(n+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24000" y="2492280"/>
            <a:ext cx="72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‘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(n+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59280" y="3284640"/>
            <a:ext cx="718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‘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(n+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266920" y="3860280"/>
            <a:ext cx="1443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2920" y="285264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3132000" y="321300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4651200"/>
            <a:ext cx="160956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rf(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1(n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= t‘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1(n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rf(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2(n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= t‘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2(n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rf(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5013360"/>
            <a:ext cx="36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r error detection, measurement of bunch frequency and reconstruction of integration window length, three timestamps are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87320" y="4724280"/>
            <a:ext cx="182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6 bit absolute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40400" y="5516640"/>
            <a:ext cx="12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2 bit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terface of GSI BPM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1339920"/>
            <a:ext cx="2664000" cy="504036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0360" y="1844640"/>
            <a:ext cx="16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SI BPM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VHD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90920" y="155592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90920" y="220356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92360" y="277956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92360" y="306864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87320" y="126684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ition X: 22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87320" y="191448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sition Y: 22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64720" y="2492280"/>
            <a:ext cx="82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12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64720" y="2779560"/>
            <a:ext cx="82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12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64720" y="3068640"/>
            <a:ext cx="833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Arial"/>
              </a:rPr>
              <a:t>rf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16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92360" y="33559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01160" y="1411200"/>
            <a:ext cx="20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ctional remainder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451640" y="1266840"/>
          <a:ext cx="34308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1266840"/>
                    <a:ext cx="3430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7451640" y="1916280"/>
          <a:ext cx="34308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51640" y="1916280"/>
                    <a:ext cx="3430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5501160" y="2060640"/>
            <a:ext cx="20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ractional remainder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360" y="3357720"/>
            <a:ext cx="790560" cy="107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573360"/>
            <a:ext cx="79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gitized Plate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07640" y="292428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imestam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4:34:14Z</dcterms:created>
  <dc:creator>peters</dc:creator>
  <dc:description/>
  <dc:language>en-US</dc:language>
  <cp:lastModifiedBy>Kevin Lang</cp:lastModifiedBy>
  <dcterms:modified xsi:type="dcterms:W3CDTF">2009-11-27T09:58:07Z</dcterms:modified>
  <cp:revision>54</cp:revision>
  <dc:subject/>
  <dc:title>PowerPoint-Präsentation</dc:title>
</cp:coreProperties>
</file>